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609-B770-46E0-9745-BFDAD882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540-AC2A-443C-BED1-B0DD1877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188-CFCF-45B3-8477-EA271912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E8B-BC67-41B6-B0E1-E64447C9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BE93-FF75-411B-8C73-6A23F612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E2A6-7234-4326-AA35-FD2A000A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D9E2-9CB1-4E53-AD9D-AAE48218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2737-A541-49DA-8114-D5EA1CC1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7D9E-C01E-4CF9-AD75-45252621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538F-0D62-4C80-9522-6B2C6BD6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43E7-4D6B-4284-BB70-BB13DBC6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5E9-36C6-4832-846C-307EF011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1A72-9E1C-47D9-B16C-9FFBE35E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0887-CDA2-46DB-9C96-C59C4015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BEBB-E7B0-4D55-A66C-870504BC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A850-2E80-4858-8DB9-6D596DCA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6F2C-B447-4589-BF62-4E350A00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E02-A58F-4D9B-8EBC-EF2424A3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9E2-CF2F-4688-8B68-DF5ACEBF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4E2-2F95-40F4-84AA-51C276E7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0D3-4393-404A-A8A2-AA02B01D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17E5-02FC-42F0-972C-29D7A864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9B3-946F-4876-9758-1AC5ED48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534-5A85-47A7-B9C5-F22CAD7C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486C-9E8C-4A45-B6A1-B30D6CBBAAC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0369-709B-4A39-9F55-949DDBCBDFD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6:02:38Z</dcterms:created>
  <dc:creator>hoang.duong</dc:creator>
  <dc:description/>
  <dc:language>en-US</dc:language>
  <cp:lastModifiedBy>hoang.duong</cp:lastModifiedBy>
  <dcterms:modified xsi:type="dcterms:W3CDTF">2008-04-25T16:03:26Z</dcterms:modified>
  <cp:revision>1</cp:revision>
  <dc:subject/>
  <dc:title>Slide 1</dc:title>
</cp:coreProperties>
</file>